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C8B4A-DDC8-4F83-9491-67968156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2BCC1-E28B-465B-BB0E-2614723D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10EF3-2CBD-4F4A-99AC-2A333188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94321-63C3-490F-8669-45B099C3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F462-A69D-4073-A3B6-D0FAC1AF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F1EE-A6E7-41D7-A176-3DCDB0EF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0872-B2B2-467E-933B-32226228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2B62-8D23-49A6-8A72-DA9A986E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062D-54F8-458F-8E6F-FDDFE000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B900-E819-4E3B-ACC2-27F16D43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42A1-64E6-4175-8589-65A4F5C3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0C98C-54EF-4223-9C66-F89DB15A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551A-BCFA-438F-9188-5D5C109F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2963-D6DA-4371-916D-FFEA866A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2BB7-A7EC-44DE-8D35-E7E3DF47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A1D9-05D5-4492-8335-FF76F898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E537-9E8A-4CF7-8729-E7B7F87E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489F8-B7B0-4CF0-A2C9-B7915AD8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5C95F-E691-4AA6-A7FB-73937C60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31DFE-8C16-4850-A158-5A025517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15EDC-D60C-4D75-8024-5283FFB4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7ADBC-B2AD-44CB-964B-57C339E5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45A11-4113-4CE2-98BE-0650681D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E4A5D-6FF4-4247-928B-5F79F20E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736B-D4B6-4D1F-A0D0-D60BE55DD6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E5D3-EABA-4510-8B4E-4A9097C626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Zjawiska krasow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y krasow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4370040" y="6269040"/>
            <a:ext cx="319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pracowała : Elżbieta So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e5e5ff"/>
                </a:solidFill>
                <a:latin typeface="Garamond"/>
              </a:rPr>
              <a:t>Formy krasu wewnętrzneg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skin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udnie jaskiniow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y naciekow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lagm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lagna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cieki wapien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7000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askin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4176720" cy="3743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4176720" cy="3846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-245880" y="5837400"/>
            <a:ext cx="82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chemat i otwór  najdłuższej i najgłębszej polskiej jaskini- Wielka Śnież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ługość – 22000 m, deniwelacje – 814 m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askin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3313440" cy="4597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3745080" cy="4608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8800" y="6197760"/>
            <a:ext cx="71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Otwór i studnia jaskiniowa – jaskinia Abisso Saragato – W łoc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my naciekowe w jaskinia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53080" cy="4537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24784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5480" y="6197760"/>
            <a:ext cx="581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Stalaktyty i stalagmity- Skociańskie Jame -Słowen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alagmity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11280" y="1341360"/>
            <a:ext cx="4969080" cy="4525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10040" y="605304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Jaskinia Zimna - Rumu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alagnaty , nacieki wapien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16120" y="1600200"/>
            <a:ext cx="3319200" cy="4525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053720" y="6269040"/>
            <a:ext cx="45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Jaskinia doliny Demanovskiej - Słowac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06880" y="1600200"/>
            <a:ext cx="3319560" cy="4525920"/>
          </a:xfrm>
          <a:prstGeom prst="rect">
            <a:avLst/>
          </a:prstGeom>
          <a:ln w="0">
            <a:noFill/>
          </a:ln>
        </p:spPr>
      </p:pic>
    </p:spTree>
  </p:cSld>
  <p:transition advTm="7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my krasow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Schemat form krasowy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Formy krasu zewnętrzneg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Formy krasu wewnętrzneg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7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chemat form krasowy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Doliny zamknięte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Polj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Mogo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Żłobk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Ospa krasow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Uwał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Leje krasow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Jaskini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Studnie i kominy krasow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Kotły i leje zapadliskow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Wywierzysk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Formy naciekow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4202280" cy="3456000"/>
          </a:xfrm>
          <a:prstGeom prst="rect">
            <a:avLst/>
          </a:prstGeom>
          <a:ln w="0">
            <a:noFill/>
          </a:ln>
        </p:spPr>
      </p:pic>
    </p:spTree>
  </p:cSld>
  <p:transition advTm="7000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e5e5ff"/>
                </a:solidFill>
                <a:latin typeface="Garamond"/>
              </a:rPr>
              <a:t>Formy krasu zewnętrzneg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Mogo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Ostańce krasow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Wywierzysk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Żłobki krasow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Ospa  krasow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Dolina zamknię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7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e5e5ff"/>
                </a:solidFill>
                <a:latin typeface="Garamond"/>
              </a:rPr>
              <a:t>mogo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4038480" cy="2719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3960720" cy="3816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788000" y="4076640"/>
            <a:ext cx="4032000" cy="2403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55640" y="616572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6680" y="576576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ietn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22920" y="667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84160" y="6602400"/>
            <a:ext cx="32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Pd-zach. Wybrzeże Tajland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e5e5ff"/>
                </a:solidFill>
                <a:latin typeface="Garamond"/>
              </a:rPr>
              <a:t>Ostańce krasow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2879640" cy="388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321440" cy="3816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54000" y="6053040"/>
            <a:ext cx="60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czuga Herkulesa – Jura Krakowsko-Częstochow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ywierzysk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321080" cy="388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4033800" cy="3887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-36720" y="5837400"/>
            <a:ext cx="44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iebieskie Źródła – okolice Tomaszo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zowieckiego, dolina Pi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76720" y="6010200"/>
            <a:ext cx="2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70400" y="5837400"/>
            <a:ext cx="519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Wypływ rzeki w dolinie Girdisoara - Rumu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573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Żłobki krasowe, ospa krasow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3529080" cy="4421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00720" y="2421000"/>
            <a:ext cx="3671640" cy="3672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40000" y="5157720"/>
            <a:ext cx="431640" cy="43200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3320" y="61261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Żłobki krasowe - A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3000" y="619776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spa krasowa - U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olina zamknięt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4238640" cy="3960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25040" y="598176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2:21:52Z</dcterms:created>
  <dc:creator>student11c</dc:creator>
  <dc:description/>
  <dc:language>en-US</dc:language>
  <cp:lastModifiedBy>student11c</cp:lastModifiedBy>
  <dcterms:modified xsi:type="dcterms:W3CDTF">2002-11-08T11:29:55Z</dcterms:modified>
  <cp:revision>20</cp:revision>
  <dc:subject/>
  <dc:title>Zjawiska krasowe</dc:title>
</cp:coreProperties>
</file>